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261C-337A-4476-897A-94FCB067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ike the book I found. My professor says in need articles, too. I have seen a lot of articles in magazines and newspapers but my prof says I need scholarly articles. I am not sure what those are so I think I should ask at the libr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sked the librarian about the different types of periodicals. Here are some features of popular articles. Read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larly articles are different. Here are some things to look for. Reads key points. Points out peer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so asked where to look for these articles. The librarian told me to begin with Academic Search Premier. Once again, I start at the library homepage, then look for…….. When I see the search screen on Academic Search Premier, I enter my search terms, MySpace and frie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ot mainly popular magazines, like USA Today. But, if I also search for “social networks” I find a lot more articles. Many of them are scholarly. Show a couple of ti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rick I learned is to limit my search to scholarly articles by clicking on the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, now I can locate a list of citations for articles. In the next module, I will learn how to find the article itself and use it for my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E48-416C-404F-AFC5-F65E11C2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E84-8795-4478-B113-472BF88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286-AB3E-4F95-8CF5-2185140C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760-D4A0-479D-A0BF-3D475B3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38C-E16C-4640-8EDE-FFD3042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897-9051-4BD7-8372-D4B39DA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9D9-380E-421D-8EEC-8DEA06F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408-651E-4A3E-B21A-C20B0C3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786-9CE5-43D8-85AD-3FBE414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2D6-B7EB-41CB-A6A7-7ADE800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E27-CB5A-4AD4-B29C-91F2842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B14-2EBA-4E15-A4F1-16C3643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397-A212-4174-8BD3-8B435628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creen sh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Jane with a b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r artic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screen shot of Fortune (9/4/06) and describe the fe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 staf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ads and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sell or persu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ferences or bibl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larly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shot of one, maybe Journal of Soci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: written by scholars, publish original research, few if any ads and pictures, less frequent publication, always have bibliographies or foot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x about peer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ind these artic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place to start is a library database, such as Academic Search Premier.(should we add about off-campus 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re, go to Databases (screen sho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your search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and friend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se, only a few are scholarly articles.  (Show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e search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ySpace OR social networks)AND friend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finds a lot more scholarly artic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A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earch screen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Jane with a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23:25:50Z</dcterms:created>
  <dc:creator>lknight</dc:creator>
  <dc:description/>
  <dc:language>en-US</dc:language>
  <cp:lastModifiedBy>lknight</cp:lastModifiedBy>
  <dcterms:modified xsi:type="dcterms:W3CDTF">2006-12-13T21:20:49Z</dcterms:modified>
  <cp:revision>7</cp:revision>
  <dc:subject/>
  <dc:title>Finding Articles</dc:title>
</cp:coreProperties>
</file>